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607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EF0-D454-4B88-9799-EA88CFC9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234-9F20-4A62-8C7D-E5B1962E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972-D046-46EC-8B4D-CDF126DC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268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94760" y="191592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60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0268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94760" y="4302360"/>
            <a:ext cx="8492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119-F139-4E31-A7E9-59842FDE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7F9-A732-4C8B-9F04-A72F35E1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64B-98B1-453F-8E20-49BFDD37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751-A668-413F-BA10-665991F7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4D6-77D5-4FA8-9D0D-15641744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600" y="382320"/>
            <a:ext cx="2638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DBD-D9ED-44F7-A5A3-8F6A73AE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97A-C2DB-47F5-BC86-F9111C1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2760" y="430236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8BF-FB2F-49FD-82B4-8B2B8D3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60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2760" y="1915920"/>
            <a:ext cx="1287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600" y="4302360"/>
            <a:ext cx="26384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F7D-330C-484F-98BD-C77199B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382320"/>
            <a:ext cx="263844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915920"/>
            <a:ext cx="26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32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34960" indent="-763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687240" indent="-759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960" y="6671880"/>
            <a:ext cx="68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4480" y="6671880"/>
            <a:ext cx="1031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1800" y="6671880"/>
            <a:ext cx="687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017DB-0DDD-496A-A96A-3925FB662398}" type="slidenum">
              <a:rPr b="0" lang="es-E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think-cell data - do not delete" descr=""/>
          <p:cNvPicPr/>
          <p:nvPr/>
        </p:nvPicPr>
        <p:blipFill>
          <a:blip r:embed="rId2"/>
          <a:stretch/>
        </p:blipFill>
        <p:spPr>
          <a:xfrm>
            <a:off x="0" y="1440"/>
            <a:ext cx="36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hink-cell data - do not delete" descr=""/>
          <p:cNvPicPr/>
          <p:nvPr/>
        </p:nvPicPr>
        <p:blipFill>
          <a:blip r:embed="rId1"/>
          <a:stretch/>
        </p:blipFill>
        <p:spPr>
          <a:xfrm>
            <a:off x="-13768560" y="1440"/>
            <a:ext cx="1800" cy="18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"/>
          <p:cNvGrpSpPr/>
          <p:nvPr/>
        </p:nvGrpSpPr>
        <p:grpSpPr>
          <a:xfrm>
            <a:off x="738360" y="6605640"/>
            <a:ext cx="2438280" cy="226800"/>
            <a:chOff x="738360" y="6605640"/>
            <a:chExt cx="2438280" cy="226800"/>
          </a:xfrm>
        </p:grpSpPr>
        <p:pic>
          <p:nvPicPr>
            <p:cNvPr id="44" name="Picture 5" descr=""/>
            <p:cNvPicPr/>
            <p:nvPr/>
          </p:nvPicPr>
          <p:blipFill>
            <a:blip r:embed="rId2"/>
            <a:srcRect l="0" t="0" r="73827" b="0"/>
            <a:stretch/>
          </p:blipFill>
          <p:spPr>
            <a:xfrm>
              <a:off x="738360" y="6605640"/>
              <a:ext cx="7689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6" descr=""/>
            <p:cNvPicPr/>
            <p:nvPr/>
          </p:nvPicPr>
          <p:blipFill>
            <a:blip r:embed="rId3"/>
            <a:srcRect l="52317" t="0" r="18459" b="0"/>
            <a:stretch/>
          </p:blipFill>
          <p:spPr>
            <a:xfrm>
              <a:off x="2317680" y="6605640"/>
              <a:ext cx="8589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"/>
            <p:cNvPicPr/>
            <p:nvPr/>
          </p:nvPicPr>
          <p:blipFill>
            <a:blip r:embed="rId4"/>
            <a:stretch/>
          </p:blipFill>
          <p:spPr>
            <a:xfrm>
              <a:off x="1613160" y="6611400"/>
              <a:ext cx="662760" cy="20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TextBox 3"/>
          <p:cNvSpPr/>
          <p:nvPr/>
        </p:nvSpPr>
        <p:spPr>
          <a:xfrm>
            <a:off x="-4680" y="6888240"/>
            <a:ext cx="32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</a:t>
            </a:r>
            <a:r>
              <a:rPr b="0" lang="es-ES" sz="400" spc="-1" strike="noStrike">
                <a:solidFill>
                  <a:srgbClr val="ffffff"/>
                </a:solidFill>
                <a:latin typeface="Gill Sans MT"/>
                <a:ea typeface="Arial"/>
              </a:rPr>
              <a:t> d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4" descr=""/>
          <p:cNvPicPr/>
          <p:nvPr/>
        </p:nvPicPr>
        <p:blipFill>
          <a:blip r:embed="rId5"/>
          <a:stretch/>
        </p:blipFill>
        <p:spPr>
          <a:xfrm>
            <a:off x="0" y="6888240"/>
            <a:ext cx="3060720" cy="312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9320" y="687384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Consejería d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ill Sans MT"/>
                <a:ea typeface="Arial"/>
              </a:rPr>
              <a:t>XX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08:08:51Z</dcterms:created>
  <dc:creator>Calviño Gonzalez, Maria</dc:creator>
  <dc:description/>
  <dc:language>en-US</dc:language>
  <cp:lastModifiedBy>Senent Gimenez, Ana</cp:lastModifiedBy>
  <dcterms:modified xsi:type="dcterms:W3CDTF">2025-04-15T15:04:23Z</dcterms:modified>
  <cp:revision>9</cp:revision>
  <dc:subject/>
  <dc:title>PowerPoint Presentation</dc:title>
</cp:coreProperties>
</file>